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9615-6511-464D-B699-7A0F8127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A8F0-B7E9-498C-9188-3F367876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B33-34EF-470C-A8DB-D324C6BB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907C-E02B-4216-9008-4E714C89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93C-4F8A-420D-B742-88B3D6FD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429-8553-45B9-8C88-BC8DBB20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665-8B7D-4236-9596-057CE7CF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7E08-E939-4E3B-B073-55589DF5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F69-EA15-4C99-9DD4-9F3F8181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E66-ADAC-4DB6-A2F9-AC4FD9B7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89C4-23C5-40AB-B31B-648971D7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5B5-8141-4A0F-BA56-7FA308E5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5332-30AD-409E-8284-000449C31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ción para 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minuir la tasa de error en la información de la factu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ancia del re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minuye la tasa de error de las lectu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jorar la satisfacción del cl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minuir los costos a largo plaz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minución de tiempo de lect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ón a tiempo re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o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uesta de Re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03160" y="907920"/>
          <a:ext cx="742644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907920"/>
                    <a:ext cx="74264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acto del Cambio Propues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ceso carece de Empresa Externa para la lect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jora de un 33,4% en el tiempo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jora en un 89,4% los costos del procesos. Se Liberan US$17,8 Mill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jora en un 99,5% del error en lect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jora en la satisfacción del cl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23:12:21Z</dcterms:created>
  <dc:creator>AFUCOCHEN</dc:creator>
  <dc:description/>
  <dc:language>en-US</dc:language>
  <cp:lastModifiedBy>AFUCOCHEN</cp:lastModifiedBy>
  <dcterms:modified xsi:type="dcterms:W3CDTF">2007-10-12T23:56:12Z</dcterms:modified>
  <cp:revision>3</cp:revision>
  <dc:subject/>
  <dc:title>Definición para el Proyecto</dc:title>
</cp:coreProperties>
</file>